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8.png" ContentType="image/png"/>
  <Override PartName="/ppt/media/image16.wmf" ContentType="image/x-wmf"/>
  <Override PartName="/ppt/media/image13.png" ContentType="image/png"/>
  <Override PartName="/ppt/media/image10.gif" ContentType="image/gif"/>
  <Override PartName="/ppt/media/image32.jpeg" ContentType="image/jpeg"/>
  <Override PartName="/ppt/media/image11.png" ContentType="image/png"/>
  <Override PartName="/ppt/media/image6.wmf" ContentType="image/x-wmf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36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33.wmf" ContentType="image/x-wmf"/>
  <Override PartName="/ppt/media/image29.jpeg" ContentType="image/jpeg"/>
  <Override PartName="/ppt/media/image3.jpeg" ContentType="image/jpeg"/>
  <Override PartName="/ppt/media/image30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94D7-C835-4015-93F5-F6D84401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1C3-E9E5-4CB9-9269-20062CE9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C862-76D1-45F3-91C6-C2FA2DD2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7260-5E62-4E3A-8350-917A63D7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F447-1643-43BB-991A-2DC6F2B2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6C56-53F8-46E3-9102-5053EF3C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8212-65EE-4789-B647-AB75A841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A0C0-4539-48BF-8788-781556E2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AF0-CCBE-47C4-8AB4-35F9E179C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AF3-238D-472F-803F-1380B8670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5BA-6A78-4700-816D-46E06286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84E1-DE19-44B4-976C-7C2F37CA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DC77-E1F2-412F-97B0-88188BDC7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jpe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27280" y="198900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08000" y="1484280"/>
            <a:ext cx="518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990099"/>
                </a:solidFill>
                <a:latin typeface="Arial"/>
              </a:rPr>
              <a:t>Beta bea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1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Jacques Bou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A Salay/ APC Pa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997360"/>
            <a:ext cx="6696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asics of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baseline  CERN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igher energy beta b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the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93080" y="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F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rn, 18/10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82036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2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95672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6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6021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58136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58800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817236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1280" y="472428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11280" y="3573360"/>
            <a:ext cx="28872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35772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08720" y="5300280"/>
            <a:ext cx="0" cy="289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64000" y="602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0" lang="en-GB" sz="18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4360" y="5950080"/>
            <a:ext cx="3743280" cy="368280"/>
          </a:xfrm>
          <a:prstGeom prst="rect">
            <a:avLst/>
          </a:prstGeom>
          <a:noFill/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663300"/>
                </a:solidFill>
                <a:latin typeface="Arial"/>
              </a:rPr>
              <a:t>SPL= 10 x T2K1  + sensitivity on </a:t>
            </a:r>
            <a:r>
              <a:rPr b="0" lang="en-GB" sz="1800" spc="-1" strike="noStrike">
                <a:solidFill>
                  <a:srgbClr val="663300"/>
                </a:solidFill>
                <a:latin typeface="Symbol"/>
                <a:ea typeface="Symbol"/>
              </a:rPr>
              <a:t>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6453360"/>
            <a:ext cx="460836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ame performance as T2K2 (megat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to overcome superbeam limita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56764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in proble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PL protons produce less negative pions, so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less anti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tineutrino cross-sec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5 times sma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tha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 10 SPL years have to be shared  as  ~ 2 neutrino + 8 antineutrino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e sol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duce 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to study 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scillation and run it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SIMULTANE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beam from S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ar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T asymetry, equivalent to CP asymet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  <a:ea typeface="Arial"/>
              </a:rPr>
              <a:t>THIS WAS THE INITIAL MOTIVATION FOR A 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268280"/>
            <a:ext cx="8086680" cy="61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Concept proposed by Piero Zucch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 radioactive ions (ISOL techniqu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them in the CERN accelerator complex up to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order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ore ions in a storage ring with long straight sections aimed at a f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dvant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ongly focussed neutrino beam due to small Q value of beta dec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quality factor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/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y pure flavour composition (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ntaminatio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erfectly known energy spect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seline scenario first studied at CERN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Mats Lindroos and collabora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and now part of the EURISOL T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trong synergy between beta beams and EURISOL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07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 production from 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(n,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53337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preferred to direct irradiation (heat transfer and efficient cooling allows higher power compared to insulating Be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 production rate is ~2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916600" cy="4148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04920" y="2286000"/>
            <a:ext cx="365760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er technology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J. Nolen, NPA 701 (2002) 312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27280" y="127080"/>
            <a:ext cx="5790960" cy="83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 p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295280"/>
            <a:ext cx="6705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allation of close-by target nuc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(p,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verter technology cannot be used; the beam hits directly the magnesium oxid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on rate for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is ~ 1x10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ions/s (dc) for ~200 kW on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 can be produced with one order of magnitude higher intensity but the half-life is 17 second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4760" y="284040"/>
            <a:ext cx="71676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-beam base 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84836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Strategy for the conceptual design stud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hould be based 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known techn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 large number of technology jumps, requiring major and costly R&amp;D eff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-u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rever possib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xisting infrastruct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.e. accelerators) for the “first stage” base line desig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jor ingredi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S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chnique for production of radioactive 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ERN 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P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celerators for acce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ions: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t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lang="en-US" sz="20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2164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31880" y="284040"/>
            <a:ext cx="7758000" cy="11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ta-beam baseline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13480" y="5048280"/>
            <a:ext cx="1143000" cy="1079640"/>
          </a:xfrm>
          <a:custGeom>
            <a:avLst/>
            <a:gdLst/>
            <a:ahLst/>
            <a:rect l="l" t="t" r="r" b="b"/>
            <a:pathLst>
              <a:path w="680" h="680">
                <a:moveTo>
                  <a:pt x="104" y="0"/>
                </a:moveTo>
                <a:cubicBezTo>
                  <a:pt x="52" y="116"/>
                  <a:pt x="0" y="232"/>
                  <a:pt x="8" y="336"/>
                </a:cubicBezTo>
                <a:cubicBezTo>
                  <a:pt x="16" y="440"/>
                  <a:pt x="80" y="568"/>
                  <a:pt x="152" y="624"/>
                </a:cubicBezTo>
                <a:cubicBezTo>
                  <a:pt x="224" y="680"/>
                  <a:pt x="352" y="680"/>
                  <a:pt x="440" y="672"/>
                </a:cubicBezTo>
                <a:cubicBezTo>
                  <a:pt x="528" y="664"/>
                  <a:pt x="604" y="620"/>
                  <a:pt x="680" y="576"/>
                </a:cubicBez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838600" y="4064040"/>
            <a:ext cx="674640" cy="1127160"/>
          </a:xfrm>
          <a:custGeom>
            <a:avLst/>
            <a:gdLst/>
            <a:ahLst/>
            <a:rect l="l" t="t" r="r" b="b"/>
            <a:pathLst>
              <a:path w="641" h="963">
                <a:moveTo>
                  <a:pt x="0" y="963"/>
                </a:moveTo>
                <a:lnTo>
                  <a:pt x="641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81560" y="3670200"/>
            <a:ext cx="99072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Neutrino Source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1040" y="3027240"/>
            <a:ext cx="1562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produc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SOL target &amp;   Ion sou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343240"/>
            <a:ext cx="14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Proton Driver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3352680"/>
            <a:ext cx="1295280" cy="23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cay 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500 T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B = ~5 T          C = ~7000 m     L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 Unicode MS"/>
              </a:rPr>
              <a:t>ss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~2500 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 Unicode MS"/>
              </a:rPr>
              <a:t>18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e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=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130800" y="2610000"/>
            <a:ext cx="1117080" cy="1005480"/>
            <a:chOff x="6130800" y="2610000"/>
            <a:chExt cx="1117080" cy="1005480"/>
          </a:xfrm>
        </p:grpSpPr>
        <p:sp>
          <p:nvSpPr>
            <p:cNvPr id="163" name=""/>
            <p:cNvSpPr/>
            <p:nvPr/>
          </p:nvSpPr>
          <p:spPr>
            <a:xfrm>
              <a:off x="613116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130800" y="2610000"/>
              <a:ext cx="1116720" cy="100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130800" y="4905000"/>
            <a:ext cx="1117080" cy="1057320"/>
            <a:chOff x="6130800" y="4905000"/>
            <a:chExt cx="1117080" cy="1057320"/>
          </a:xfrm>
        </p:grpSpPr>
        <p:sp>
          <p:nvSpPr>
            <p:cNvPr id="166" name=""/>
            <p:cNvSpPr/>
            <p:nvPr/>
          </p:nvSpPr>
          <p:spPr>
            <a:xfrm flipV="1">
              <a:off x="613116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130800" y="4904640"/>
              <a:ext cx="1116720" cy="105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72486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30800" y="3112920"/>
            <a:ext cx="0" cy="232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38360" y="3289320"/>
            <a:ext cx="2486160" cy="2438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4720" y="5353200"/>
            <a:ext cx="156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medium energy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63880" y="5651640"/>
            <a:ext cx="272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35160" y="5484960"/>
            <a:ext cx="174600" cy="176040"/>
          </a:xfrm>
          <a:custGeom>
            <a:avLst/>
            <a:gdLst/>
            <a:ahLst/>
            <a:rect l="l" t="t" r="r" b="b"/>
            <a:pathLst>
              <a:path w="65" h="51">
                <a:moveTo>
                  <a:pt x="65" y="0"/>
                </a:moveTo>
                <a:lnTo>
                  <a:pt x="0" y="5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5360" y="5194440"/>
            <a:ext cx="533520" cy="722160"/>
          </a:xfrm>
          <a:custGeom>
            <a:avLst/>
            <a:gdLst/>
            <a:ahLst/>
            <a:rect l="l" t="t" r="r" b="b"/>
            <a:pathLst>
              <a:path w="149" h="182">
                <a:moveTo>
                  <a:pt x="0" y="182"/>
                </a:moveTo>
                <a:lnTo>
                  <a:pt x="149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70200" y="5099040"/>
            <a:ext cx="5317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67040" y="2496960"/>
            <a:ext cx="2895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Acceleration to final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PS &amp; S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251840" y="2304720"/>
            <a:ext cx="0" cy="1066680"/>
          </a:xfrm>
          <a:prstGeom prst="line">
            <a:avLst/>
          </a:prstGeom>
          <a:ln cap="rnd" w="50760">
            <a:solidFill>
              <a:srgbClr val="ff0000"/>
            </a:solidFill>
            <a:custDash>
              <a:ds d="100000" sp="1000"/>
            </a:custDash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34200" y="2143080"/>
            <a:ext cx="224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to  experi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05080" y="2743200"/>
            <a:ext cx="120600" cy="2743200"/>
          </a:xfrm>
          <a:custGeom>
            <a:avLst/>
            <a:gdLst/>
            <a:ahLst/>
            <a:rect l="l" t="t" r="r" b="b"/>
            <a:pathLst>
              <a:path w="1" h="233">
                <a:moveTo>
                  <a:pt x="0" y="0"/>
                </a:moveTo>
                <a:lnTo>
                  <a:pt x="0" y="2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19400" y="4062240"/>
            <a:ext cx="152280" cy="15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09680" y="4467240"/>
            <a:ext cx="181080" cy="58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71880" y="2305080"/>
            <a:ext cx="24732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07960" y="4549680"/>
            <a:ext cx="16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Ion accele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in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4720" y="3857760"/>
            <a:ext cx="17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Unicode MS"/>
              </a:rPr>
              <a:t>Beam preparation</a:t>
            </a:r>
            <a:r>
              <a:rPr b="0" lang="en-US" sz="1600" spc="-1" strike="noStrike">
                <a:solidFill>
                  <a:srgbClr val="333399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CR pul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84480" y="3224160"/>
            <a:ext cx="247680" cy="468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5360" y="178596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o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14880" y="17859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ccel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905440" y="17812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Neutrino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4720" y="136224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Low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52920" y="139068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High-energy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6560" y="1295280"/>
            <a:ext cx="8182080" cy="497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7200" y="1314360"/>
            <a:ext cx="2092320" cy="3962520"/>
          </a:xfrm>
          <a:custGeom>
            <a:avLst/>
            <a:gdLst/>
            <a:ahLst/>
            <a:rect l="l" t="t" r="r" b="b"/>
            <a:pathLst>
              <a:path w="1344" h="2496">
                <a:moveTo>
                  <a:pt x="0" y="2496"/>
                </a:moveTo>
                <a:lnTo>
                  <a:pt x="1344" y="2496"/>
                </a:lnTo>
                <a:lnTo>
                  <a:pt x="1344" y="0"/>
                </a:lnTo>
              </a:path>
            </a:pathLst>
          </a:custGeom>
          <a:noFill/>
          <a:ln w="255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648180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dc to very short bun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6080" y="1066680"/>
            <a:ext cx="8919720" cy="5303160"/>
            <a:chOff x="46080" y="1066680"/>
            <a:chExt cx="8919720" cy="5303160"/>
          </a:xfrm>
        </p:grpSpPr>
        <p:sp>
          <p:nvSpPr>
            <p:cNvPr id="196" name=""/>
            <p:cNvSpPr/>
            <p:nvPr/>
          </p:nvSpPr>
          <p:spPr>
            <a:xfrm>
              <a:off x="1514160" y="1295280"/>
              <a:ext cx="5628960" cy="774720"/>
            </a:xfrm>
            <a:custGeom>
              <a:avLst/>
              <a:gdLst/>
              <a:ahLst/>
              <a:rect l="l" t="t" r="r" b="b"/>
              <a:pathLst>
                <a:path w="2160" h="576">
                  <a:moveTo>
                    <a:pt x="0" y="576"/>
                  </a:moveTo>
                  <a:lnTo>
                    <a:pt x="48" y="528"/>
                  </a:lnTo>
                  <a:lnTo>
                    <a:pt x="144" y="528"/>
                  </a:lnTo>
                  <a:lnTo>
                    <a:pt x="1392" y="0"/>
                  </a:lnTo>
                  <a:lnTo>
                    <a:pt x="1488" y="0"/>
                  </a:lnTo>
                  <a:lnTo>
                    <a:pt x="2160" y="57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493640" y="1295280"/>
              <a:ext cx="0" cy="77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93640" y="2066760"/>
              <a:ext cx="74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46520" y="6202440"/>
              <a:ext cx="18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03120" y="6197760"/>
              <a:ext cx="434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157880" y="6019920"/>
              <a:ext cx="431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468080" y="2514600"/>
              <a:ext cx="446040" cy="304920"/>
              <a:chOff x="1468080" y="2514600"/>
              <a:chExt cx="446040" cy="304920"/>
            </a:xfrm>
          </p:grpSpPr>
          <p:sp>
            <p:nvSpPr>
              <p:cNvPr id="203" name=""/>
              <p:cNvSpPr/>
              <p:nvPr/>
            </p:nvSpPr>
            <p:spPr>
              <a:xfrm>
                <a:off x="1468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31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594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657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720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783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46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909080" y="2514600"/>
                <a:ext cx="504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 flipH="1" flipV="1">
              <a:off x="960120" y="3546360"/>
              <a:ext cx="334800" cy="2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640" y="3152880"/>
              <a:ext cx="1294920" cy="39348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379520" y="21477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50640" y="30128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0640" y="36226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460160" y="2441520"/>
              <a:ext cx="479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151000" y="33177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080" y="30812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45840" y="35226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55560" y="311796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246880" y="205740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88720" y="136368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41360" y="32418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55960" y="166860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92120" y="209556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10800000">
              <a:off x="1353600" y="2796840"/>
              <a:ext cx="66636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46520" y="5465880"/>
              <a:ext cx="1828440" cy="152280"/>
            </a:xfrm>
            <a:prstGeom prst="rect">
              <a:avLst/>
            </a:prstGeom>
            <a:solidFill>
              <a:srgbClr val="00ff00">
                <a:alpha val="31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99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27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56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849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5135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7421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9707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99360" y="5160960"/>
              <a:ext cx="756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46520" y="5846760"/>
              <a:ext cx="1828440" cy="152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624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2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81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3101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387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7673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9959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224560" y="4551480"/>
              <a:ext cx="75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00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29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157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3864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150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436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722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00880" y="3963960"/>
              <a:ext cx="18720" cy="457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7145280" y="2519280"/>
              <a:ext cx="424440" cy="304920"/>
              <a:chOff x="7145280" y="2519280"/>
              <a:chExt cx="424440" cy="304920"/>
            </a:xfrm>
          </p:grpSpPr>
          <p:sp>
            <p:nvSpPr>
              <p:cNvPr id="254" name=""/>
              <p:cNvSpPr/>
              <p:nvPr/>
            </p:nvSpPr>
            <p:spPr>
              <a:xfrm>
                <a:off x="714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20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26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32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38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4516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50528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65040" y="2519280"/>
                <a:ext cx="4680" cy="30492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627600" y="3827520"/>
              <a:ext cx="175212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7132320" y="3560400"/>
              <a:ext cx="334800" cy="23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738840" y="3166920"/>
              <a:ext cx="1294920" cy="393840"/>
            </a:xfrm>
            <a:custGeom>
              <a:avLst/>
              <a:gdLst/>
              <a:ahLst/>
              <a:rect l="l" t="t" r="r" b="b"/>
              <a:pathLst>
                <a:path w="816" h="336">
                  <a:moveTo>
                    <a:pt x="0" y="336"/>
                  </a:moveTo>
                  <a:lnTo>
                    <a:pt x="48" y="288"/>
                  </a:lnTo>
                  <a:lnTo>
                    <a:pt x="336" y="288"/>
                  </a:lnTo>
                  <a:lnTo>
                    <a:pt x="672" y="0"/>
                  </a:lnTo>
                  <a:lnTo>
                    <a:pt x="720" y="0"/>
                  </a:lnTo>
                  <a:lnTo>
                    <a:pt x="816" y="33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56360" y="21528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2x1</a:t>
              </a: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522840" y="302724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22840" y="3637080"/>
              <a:ext cx="20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137360" y="24462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323200" y="3332160"/>
              <a:ext cx="40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217920" y="30956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818040" y="353700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7760" y="3132000"/>
              <a:ext cx="761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513560" y="3255840"/>
              <a:ext cx="53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68960" y="2100240"/>
              <a:ext cx="634680" cy="15228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0800000">
              <a:off x="7030440" y="2798640"/>
              <a:ext cx="634680" cy="152640"/>
            </a:xfrm>
            <a:custGeom>
              <a:avLst/>
              <a:gdLst/>
              <a:ahLst/>
              <a:rect l="l" t="t" r="r" b="b"/>
              <a:pathLst>
                <a:path w="1104" h="96">
                  <a:moveTo>
                    <a:pt x="0" y="96"/>
                  </a:moveTo>
                  <a:lnTo>
                    <a:pt x="48" y="48"/>
                  </a:lnTo>
                  <a:lnTo>
                    <a:pt x="480" y="48"/>
                  </a:lnTo>
                  <a:lnTo>
                    <a:pt x="528" y="0"/>
                  </a:lnTo>
                  <a:lnTo>
                    <a:pt x="576" y="48"/>
                  </a:lnTo>
                  <a:lnTo>
                    <a:pt x="1056" y="48"/>
                  </a:lnTo>
                  <a:lnTo>
                    <a:pt x="1104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70560" y="6075360"/>
              <a:ext cx="220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99160" y="577044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370560" y="378936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 flipV="1">
              <a:off x="7360560" y="2946240"/>
              <a:ext cx="456840" cy="152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84760" y="1066680"/>
              <a:ext cx="2361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x1 </a:t>
              </a: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to decay r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(2x4 bunches of &lt;5 ns)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03520" y="1219320"/>
              <a:ext cx="304560" cy="75960"/>
            </a:xfrm>
            <a:custGeom>
              <a:avLst/>
              <a:gdLst/>
              <a:ahLst/>
              <a:rect l="l" t="t" r="r" b="b"/>
              <a:pathLst>
                <a:path w="192" h="48">
                  <a:moveTo>
                    <a:pt x="0" y="48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507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560320" y="2971800"/>
              <a:ext cx="25905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1 s flat bottom with 8 (16) injections. Acceleration in ~1 s  to top PS energy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535120" y="5811840"/>
              <a:ext cx="434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Target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dc production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5120" y="5168880"/>
              <a:ext cx="36064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60 GHz ECR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: accumulation for 1/8 (1/16) s ejection of fully stripped ~2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 pulse.              8 (16) batche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560320" y="3733920"/>
              <a:ext cx="29714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RC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further bunching to ~100 ns  Acceleration to ~300 MeV/u.              8 (16) repetitions during 1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560320" y="2209680"/>
              <a:ext cx="3809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PS: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injection of 4 + 4  bunches from PS. Acceleration to decay ring energy and ejection. Repetition time 8 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198360" y="3809880"/>
              <a:ext cx="4875840" cy="2559960"/>
              <a:chOff x="198360" y="3809880"/>
              <a:chExt cx="4875840" cy="2559960"/>
            </a:xfrm>
          </p:grpSpPr>
          <p:sp>
            <p:nvSpPr>
              <p:cNvPr id="288" name=""/>
              <p:cNvSpPr/>
              <p:nvPr/>
            </p:nvSpPr>
            <p:spPr>
              <a:xfrm>
                <a:off x="273960" y="6197760"/>
                <a:ext cx="18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985320" y="6032520"/>
                <a:ext cx="43128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1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60160" y="6032520"/>
                <a:ext cx="431640" cy="33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7 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559960" y="4483080"/>
                <a:ext cx="25142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Post accelerator lina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: acceleration to ~100 MeV/u.     8 (16) repetitions during 1 s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73960" y="5486400"/>
                <a:ext cx="1828440" cy="152280"/>
              </a:xfrm>
              <a:prstGeom prst="rect">
                <a:avLst/>
              </a:prstGeom>
              <a:solidFill>
                <a:srgbClr val="00ff00">
                  <a:alpha val="31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26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55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883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1124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3410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5696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7982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26800" y="5181480"/>
                <a:ext cx="7560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73960" y="5867280"/>
                <a:ext cx="1828440" cy="1526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51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0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09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1376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3662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948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8234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052000" y="4572000"/>
                <a:ext cx="75960" cy="4572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8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56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85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2139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25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6711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997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128320" y="3984480"/>
                <a:ext cx="18720" cy="4572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55040" y="3848040"/>
                <a:ext cx="1752120" cy="152640"/>
              </a:xfrm>
              <a:custGeom>
                <a:avLst/>
                <a:gdLst/>
                <a:ahLst/>
                <a:rect l="l" t="t" r="r" b="b"/>
                <a:pathLst>
                  <a:path w="1104" h="96">
                    <a:moveTo>
                      <a:pt x="0" y="96"/>
                    </a:moveTo>
                    <a:lnTo>
                      <a:pt x="48" y="48"/>
                    </a:lnTo>
                    <a:lnTo>
                      <a:pt x="480" y="48"/>
                    </a:lnTo>
                    <a:lnTo>
                      <a:pt x="528" y="0"/>
                    </a:lnTo>
                    <a:lnTo>
                      <a:pt x="576" y="48"/>
                    </a:lnTo>
                    <a:lnTo>
                      <a:pt x="1056" y="48"/>
                    </a:lnTo>
                    <a:lnTo>
                      <a:pt x="1104" y="9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98360" y="6095880"/>
                <a:ext cx="220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26600" y="5791320"/>
                <a:ext cx="409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98360" y="380988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7137360" y="1685880"/>
              <a:ext cx="1828440" cy="380880"/>
            </a:xfrm>
            <a:custGeom>
              <a:avLst/>
              <a:gdLst/>
              <a:ahLst/>
              <a:rect l="l" t="t" r="r" b="b"/>
              <a:pathLst>
                <a:path w="1152" h="240">
                  <a:moveTo>
                    <a:pt x="0" y="240"/>
                  </a:moveTo>
                  <a:lnTo>
                    <a:pt x="96" y="192"/>
                  </a:lnTo>
                  <a:lnTo>
                    <a:pt x="240" y="192"/>
                  </a:lnTo>
                  <a:lnTo>
                    <a:pt x="115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collection/acceleration sche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80880" y="2629080"/>
            <a:ext cx="7162920" cy="2133000"/>
            <a:chOff x="380880" y="2629080"/>
            <a:chExt cx="7162920" cy="2133000"/>
          </a:xfrm>
        </p:grpSpPr>
        <p:grpSp>
          <p:nvGrpSpPr>
            <p:cNvPr id="325" name=""/>
            <p:cNvGrpSpPr/>
            <p:nvPr/>
          </p:nvGrpSpPr>
          <p:grpSpPr>
            <a:xfrm>
              <a:off x="380880" y="4228920"/>
              <a:ext cx="5027400" cy="533160"/>
              <a:chOff x="380880" y="4228920"/>
              <a:chExt cx="5027400" cy="533160"/>
            </a:xfrm>
          </p:grpSpPr>
          <p:sp>
            <p:nvSpPr>
              <p:cNvPr id="326" name=""/>
              <p:cNvSpPr/>
              <p:nvPr/>
            </p:nvSpPr>
            <p:spPr>
              <a:xfrm>
                <a:off x="386280" y="4481280"/>
                <a:ext cx="5022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808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9692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1584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53476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508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9700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68900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408280" y="42289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1100160" y="3682800"/>
              <a:ext cx="5025600" cy="533160"/>
              <a:chOff x="1100160" y="3682800"/>
              <a:chExt cx="5025600" cy="533160"/>
            </a:xfrm>
          </p:grpSpPr>
          <p:sp>
            <p:nvSpPr>
              <p:cNvPr id="336" name=""/>
              <p:cNvSpPr/>
              <p:nvPr/>
            </p:nvSpPr>
            <p:spPr>
              <a:xfrm>
                <a:off x="1105560" y="3935160"/>
                <a:ext cx="5020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1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815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534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2533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693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68792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40684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125760" y="368280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34920" y="341460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81296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35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2479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5604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6987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180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12612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56200" y="316224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22520" y="2881080"/>
              <a:ext cx="5021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5318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43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9672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9728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4133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13224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152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543800" y="262908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93840" y="445788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48520" y="4381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372360" y="371628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10280" y="3238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96080" y="25527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cay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457200" y="3924000"/>
            <a:ext cx="609120" cy="533160"/>
            <a:chOff x="457200" y="3924000"/>
            <a:chExt cx="609120" cy="533160"/>
          </a:xfrm>
        </p:grpSpPr>
        <p:sp>
          <p:nvSpPr>
            <p:cNvPr id="369" name=""/>
            <p:cNvSpPr/>
            <p:nvPr/>
          </p:nvSpPr>
          <p:spPr>
            <a:xfrm flipV="1">
              <a:off x="45720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0948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61760" y="3924000"/>
              <a:ext cx="15192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914040" y="3924000"/>
              <a:ext cx="152280" cy="5331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5425920" y="444492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89640" y="3911760"/>
            <a:ext cx="609120" cy="532800"/>
            <a:chOff x="5489640" y="3911760"/>
            <a:chExt cx="609120" cy="532800"/>
          </a:xfrm>
        </p:grpSpPr>
        <p:sp>
          <p:nvSpPr>
            <p:cNvPr id="375" name=""/>
            <p:cNvSpPr/>
            <p:nvPr/>
          </p:nvSpPr>
          <p:spPr>
            <a:xfrm flipV="1">
              <a:off x="548964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564192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5794200" y="3911760"/>
              <a:ext cx="15192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946480" y="3911760"/>
              <a:ext cx="152280" cy="532800"/>
            </a:xfrm>
            <a:prstGeom prst="line">
              <a:avLst/>
            </a:prstGeom>
            <a:ln w="936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>
            <a:off x="1143000" y="3429000"/>
            <a:ext cx="692280" cy="495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84360" y="1700280"/>
            <a:ext cx="13716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5069"/>
              <a:gd name="adj5" fmla="val 319273"/>
              <a:gd name="adj6" fmla="val -656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imes New Roman"/>
              </a:rPr>
              <a:t>Ramp time 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0880" y="56008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57531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ime 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5753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57405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5479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448240" y="547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258920" y="4797360"/>
            <a:ext cx="4191120" cy="762120"/>
            <a:chOff x="1258920" y="4797360"/>
            <a:chExt cx="4191120" cy="762120"/>
          </a:xfrm>
        </p:grpSpPr>
        <p:sp>
          <p:nvSpPr>
            <p:cNvPr id="388" name=""/>
            <p:cNvSpPr/>
            <p:nvPr/>
          </p:nvSpPr>
          <p:spPr>
            <a:xfrm rot="5400000">
              <a:off x="3163680" y="3273120"/>
              <a:ext cx="381240" cy="41911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109080 h 4191120"/>
                <a:gd name="textAreaBottom" fmla="*/ 4082040 h 4191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30520" y="47973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No colle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V="1">
            <a:off x="1835280" y="2852280"/>
            <a:ext cx="3600360" cy="576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486400" y="1600200"/>
            <a:ext cx="2286000" cy="1790640"/>
            <a:chOff x="5486400" y="1600200"/>
            <a:chExt cx="2286000" cy="1790640"/>
          </a:xfrm>
        </p:grpSpPr>
        <p:sp>
          <p:nvSpPr>
            <p:cNvPr id="392" name=""/>
            <p:cNvSpPr/>
            <p:nvPr/>
          </p:nvSpPr>
          <p:spPr>
            <a:xfrm>
              <a:off x="5486400" y="2933640"/>
              <a:ext cx="1447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53440" y="1600200"/>
              <a:ext cx="1218960" cy="6094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28384"/>
                <a:gd name="adj5" fmla="val 236981"/>
                <a:gd name="adj6" fmla="val -511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Times New Roman"/>
                </a:rPr>
                <a:t>Reset time SP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258920" y="4508640"/>
            <a:ext cx="4114800" cy="304560"/>
          </a:xfrm>
          <a:prstGeom prst="rightArrow">
            <a:avLst>
              <a:gd name="adj1" fmla="val 50000"/>
              <a:gd name="adj2" fmla="val 337766"/>
            </a:avLst>
          </a:prstGeom>
          <a:solidFill>
            <a:srgbClr val="ff0000">
              <a:alpha val="4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5950080"/>
            <a:ext cx="601200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Typically (for 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6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He): 1 out of 8 produ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Arial"/>
              </a:rPr>
              <a:t>ç</a:t>
            </a: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able ions is collect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cc0000"/>
                </a:solidFill>
                <a:latin typeface="Arial"/>
              </a:rPr>
              <a:t>1 out of 4 collected ions makes it to the ring (factor 2 for decays, factor 2 for transmission losses between machin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0360" y="6308640"/>
            <a:ext cx="295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apted from M.Lindro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989000"/>
            <a:ext cx="1512720" cy="3682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ain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971640" y="2349360"/>
            <a:ext cx="43164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0" y="1844640"/>
            <a:ext cx="114300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3611"/>
              <a:gd name="adj5" fmla="val 225000"/>
              <a:gd name="adj6" fmla="val -97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imes New Roman"/>
              </a:rPr>
              <a:t>Ramp time S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684360" y="2349360"/>
            <a:ext cx="287280" cy="1366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878" t="27845" r="26558" b="-688"/>
          <a:stretch/>
        </p:blipFill>
        <p:spPr>
          <a:xfrm>
            <a:off x="-541440" y="2060640"/>
            <a:ext cx="5149800" cy="3641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03280" y="5734080"/>
            <a:ext cx="2303640" cy="6116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scillation maximum seen a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~ 30 km/MeV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692280"/>
            <a:ext cx="396072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ar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8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=0.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56000" y="692280"/>
            <a:ext cx="4464000" cy="13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mospheric oscillation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isappea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2.5 10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V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= 1.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162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KAM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35640" y="16286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64000" y="342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rcRect l="41702" t="17657" r="0" b="0"/>
          <a:stretch/>
        </p:blipFill>
        <p:spPr>
          <a:xfrm>
            <a:off x="4462560" y="1916280"/>
            <a:ext cx="4681440" cy="455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364000" y="3429000"/>
            <a:ext cx="3240360" cy="0"/>
          </a:xfrm>
          <a:prstGeom prst="line">
            <a:avLst/>
          </a:prstGeom>
          <a:ln w="1908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115920"/>
            <a:ext cx="7056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RESENT EVIDENCE FOR OSCIL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6491160"/>
            <a:ext cx="35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Explains solar neutrino def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94200" y="6491160"/>
            <a:ext cx="42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Studied by MINOS, OPERA, ICA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85560" y="142560"/>
            <a:ext cx="6553080" cy="7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(in the SP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969840" y="1111320"/>
            <a:ext cx="7485120" cy="52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453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Goals -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8915400" cy="36720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the base line design, the aims are (cf. Bouchez et al., NuFact’0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.9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anti-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) along one straigh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nnual rate of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.1 10</a:t>
            </a:r>
            <a:r>
              <a:rPr b="0" lang="en-US" sz="1800" spc="-1" strike="noStrike" baseline="30000">
                <a:solidFill>
                  <a:srgbClr val="cc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 neutrin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) at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for a “normalized” year of 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esent status is (after 8 months of the 4-year design stud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Anti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figures)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have reached the design val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 no safety margin is yet provided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Neutrino r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nd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figures) ar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one order of magnitude bel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    desired performance. 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88000" y="476280"/>
            <a:ext cx="3889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Benedikt    CERN-ISS 22/9/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5229360"/>
            <a:ext cx="8569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*) for a single ISOL target,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U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ultip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urisol targets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timize colle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 and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dd coo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ecrease los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ue to incomplete stripping, 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relax duty cycle as a last reso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. With present ideas, we could be off by </a:t>
            </a:r>
            <a:r>
              <a:rPr b="0" lang="en-US" sz="1800" spc="-1" strike="noStrike">
                <a:solidFill>
                  <a:srgbClr val="009900"/>
                </a:solidFill>
                <a:latin typeface="Arial"/>
              </a:rPr>
              <a:t>only a factor of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148428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ERBE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86920" y="274320"/>
            <a:ext cx="6480360" cy="85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Superbeam + betab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042920" y="3573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124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651640" y="3573360"/>
            <a:ext cx="21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88000" y="357336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547640" y="2781360"/>
            <a:ext cx="503280" cy="576360"/>
          </a:xfrm>
          <a:prstGeom prst="upDownArrow">
            <a:avLst>
              <a:gd name="adj1" fmla="val 50000"/>
              <a:gd name="adj2" fmla="val 2279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156360" y="2781360"/>
            <a:ext cx="557280" cy="576360"/>
          </a:xfrm>
          <a:prstGeom prst="upDownArrow">
            <a:avLst>
              <a:gd name="adj1" fmla="val 50000"/>
              <a:gd name="adj2" fmla="val 2058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132000" y="371628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32000" y="227664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4057800">
            <a:off x="3947760" y="1663560"/>
            <a:ext cx="211320" cy="3024000"/>
          </a:xfrm>
          <a:prstGeom prst="upDownArrow">
            <a:avLst>
              <a:gd name="adj1" fmla="val 50000"/>
              <a:gd name="adj2" fmla="val 284876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516800">
            <a:off x="2540160" y="313668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16000" y="4292640"/>
            <a:ext cx="62643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5229360"/>
            <a:ext cx="7345440" cy="11674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Furthermore: the small signal searched for with one beam is the bulk of events with the other b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etter handle on detector response, strong add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64000" y="1268280"/>
            <a:ext cx="1439640" cy="7855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beam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Beta beam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84360" y="1844640"/>
            <a:ext cx="77752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ign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1-ring mu-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ackgrou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charged pions mimicking a muon (all pions except  when absorbed by strong inter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Lower energ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: less background pions, but muon Cerenkov threshold and bad energy resolution (Fermi momentu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more background, but better muon efficiency and energy bins become possib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9900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Optimization obtained through detailed detector response to signal and 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50960" y="5099040"/>
            <a:ext cx="6837840" cy="459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Present optimization: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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= 100, 100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M. Mezzet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24000" y="324000"/>
            <a:ext cx="8820000" cy="64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348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>
            <a:off x="108000" y="6308640"/>
            <a:ext cx="22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4519440" cy="382428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117360" y="1268280"/>
            <a:ext cx="4167360" cy="518508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611280" y="260280"/>
            <a:ext cx="8137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ETA BEAM PERFORMANCES, ALONE and WITH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050920" y="602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509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7636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62728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6021360"/>
            <a:ext cx="0" cy="216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630864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0.5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2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               4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643280" y="5805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3280" y="479736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643280" y="364500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191120" y="3500280"/>
            <a:ext cx="52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en-GB" sz="16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11640" y="4581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3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284720" y="5661000"/>
            <a:ext cx="50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cc0000"/>
                </a:solidFill>
                <a:latin typeface="Arial"/>
              </a:rPr>
              <a:t>0.1</a:t>
            </a:r>
            <a:r>
              <a:rPr b="1" lang="en-GB" sz="10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76720" y="645336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Mezzetto TAUP05 Zarago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765000"/>
            <a:ext cx="91440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or Frejus and HyperK detecto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4.4 Mton.year (~10 year run, 440 kT fiducial mass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Frejus: full simulation of signal and background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, based on SK software: results cross-checked using GLoBES </a:t>
            </a:r>
            <a:r>
              <a:rPr b="0" lang="en-GB" sz="1400" spc="-1" strike="noStrike">
                <a:solidFill>
                  <a:srgbClr val="cc0000"/>
                </a:solidFill>
                <a:latin typeface="Arial"/>
              </a:rPr>
              <a:t>other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GLoBES sim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500720" y="1484280"/>
            <a:ext cx="4174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ystematics on signal and background put at 2% on all projects for the same(10 y) runn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FACT; 10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1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ays/year, 2 x 50 kTdetectors at 3000 and 7500 km, detection threshold 4 G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3280" y="4292640"/>
            <a:ext cx="21600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11640" y="4076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5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5640" y="6021360"/>
            <a:ext cx="0" cy="287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211640" y="501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cc0000"/>
                </a:solidFill>
                <a:latin typeface="Arial"/>
              </a:rPr>
              <a:t>0.2</a:t>
            </a:r>
            <a:r>
              <a:rPr b="1" lang="en-GB" sz="1200" spc="-1" strike="noStrike" baseline="30000">
                <a:solidFill>
                  <a:srgbClr val="cc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43280" y="5157720"/>
            <a:ext cx="2890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936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1773360"/>
            <a:ext cx="727416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First, one should clearly distinguish between the discovery potenti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an experiment (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 0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0 ) and the determination of these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parame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ight be plagued by ambiguities (</a:t>
            </a:r>
            <a:r>
              <a:rPr b="0" lang="en-US" sz="1800" spc="-1" strike="noStrike">
                <a:solidFill>
                  <a:srgbClr val="990099"/>
                </a:solidFill>
                <a:latin typeface="Arial"/>
              </a:rPr>
              <a:t>a similar situation existed for many years for solar neutrinos : significant DEFICIT, many solutions : SMA, LMA, LOW, VA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king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e highest value of </a:t>
            </a:r>
            <a:r>
              <a:rPr b="0" lang="el-GR" sz="1800" spc="-1" strike="noStrike">
                <a:solidFill>
                  <a:srgbClr val="cc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mong different solutions as an indicator of sensitivity 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as is done for exemple by Lindner et al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s in my opinion mislead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a 2-dim sensitivity contour bringing much more information).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With this method, any oscillation experiment would have no sensitivity on </a:t>
            </a:r>
            <a:r>
              <a:rPr b="0" lang="el-GR" sz="1800" spc="-1" strike="noStrike">
                <a:solidFill>
                  <a:srgbClr val="990099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 as long as </a:t>
            </a:r>
            <a:r>
              <a:rPr b="0" lang="en-GB" sz="1800" spc="-1" strike="noStrike">
                <a:solidFill>
                  <a:srgbClr val="990099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m</a:t>
            </a:r>
            <a:r>
              <a:rPr b="0" lang="en-GB" sz="1800" spc="-1" strike="noStrike" baseline="30000">
                <a:solidFill>
                  <a:srgbClr val="990099"/>
                </a:solidFill>
                <a:latin typeface="Arial"/>
                <a:ea typeface="Arial"/>
              </a:rPr>
              <a:t>2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  <a:ea typeface="Arial"/>
              </a:rPr>
              <a:t>is unknown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Degeneracy/ambiguity issues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395280" y="1830240"/>
            <a:ext cx="7705800" cy="500868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4284720" y="2205000"/>
            <a:ext cx="14396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2K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95640" y="3141720"/>
            <a:ext cx="2808360" cy="78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.Schwetz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p-ph/05010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0" y="2253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ixing matrix: the missing parame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68000" y="3789360"/>
            <a:ext cx="11509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19280" y="378936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619280" y="2133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789360"/>
            <a:ext cx="865080" cy="9349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619280" y="3499920"/>
            <a:ext cx="1440000" cy="28908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619280" y="3357360"/>
            <a:ext cx="1224000" cy="43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619280" y="2636640"/>
            <a:ext cx="1224000" cy="11523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684000" y="3068640"/>
            <a:ext cx="934920" cy="7207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4581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3716280"/>
            <a:ext cx="488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32000" y="1844640"/>
            <a:ext cx="57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403280" y="170028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3213000"/>
            <a:ext cx="576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2492280"/>
            <a:ext cx="79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421000"/>
            <a:ext cx="72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2781360"/>
            <a:ext cx="1008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00000" y="4365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2920" y="4508640"/>
            <a:ext cx="86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84360" y="393372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68360" y="393372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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56000" y="278136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33cc33"/>
                </a:solidFill>
                <a:latin typeface="Symbol"/>
                <a:ea typeface="Symbol"/>
              </a:rPr>
              <a:t>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5013360"/>
            <a:ext cx="1873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U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CommercialScript BT"/>
              </a:rPr>
              <a:t>l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589720"/>
            <a:ext cx="3095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  is a unitary matri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angles :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us 1 CP violating phase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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7280" y="1773360"/>
            <a:ext cx="26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 masses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, m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95640" y="2565360"/>
            <a:ext cx="475308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SUN  :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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8 10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-5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~ 35</a:t>
            </a:r>
            <a:r>
              <a:rPr b="1" lang="en-US" sz="1800" spc="-1" strike="noStrike" baseline="30000">
                <a:solidFill>
                  <a:srgbClr val="33cc33"/>
                </a:solidFill>
                <a:latin typeface="Arial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cc33"/>
                </a:solidFill>
                <a:latin typeface="Arial"/>
                <a:ea typeface="Arial"/>
              </a:rPr>
              <a:t>ATM : </a:t>
            </a:r>
            <a:r>
              <a:rPr b="1" lang="en-GB" sz="2000" spc="-1" strike="noStrike">
                <a:solidFill>
                  <a:srgbClr val="33cc33"/>
                </a:solidFill>
                <a:latin typeface="Symbol"/>
                <a:ea typeface="Symbol"/>
              </a:rPr>
              <a:t>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m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20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=  2.5 10</a:t>
            </a:r>
            <a:r>
              <a:rPr b="0" lang="en-GB" sz="1800" spc="-1" strike="noStrike" baseline="30000">
                <a:solidFill>
                  <a:srgbClr val="33cc33"/>
                </a:solidFill>
                <a:latin typeface="Arial"/>
              </a:rPr>
              <a:t>-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eV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,  </a:t>
            </a:r>
            <a:r>
              <a:rPr b="1" lang="en-GB" sz="1800" spc="-1" strike="noStrike">
                <a:solidFill>
                  <a:srgbClr val="33cc33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cc33"/>
                </a:solidFill>
                <a:latin typeface="Arial"/>
              </a:rPr>
              <a:t>23</a:t>
            </a:r>
            <a:r>
              <a:rPr b="1" lang="en-GB" sz="1800" spc="-1" strike="noStrike">
                <a:solidFill>
                  <a:srgbClr val="33cc33"/>
                </a:solidFill>
                <a:latin typeface="Arial"/>
              </a:rPr>
              <a:t>  = 45</a:t>
            </a:r>
            <a:r>
              <a:rPr b="1" lang="en-GB" sz="1800" spc="-1" strike="noStrike" baseline="30000">
                <a:solidFill>
                  <a:srgbClr val="33cc33"/>
                </a:solidFill>
                <a:latin typeface="Arial"/>
              </a:rPr>
              <a:t>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24360" y="3716280"/>
            <a:ext cx="489564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Missing :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1" lang="en-GB" sz="2400" spc="-1" strike="noStrike" baseline="-25000">
                <a:solidFill>
                  <a:srgbClr val="cc0000"/>
                </a:solidFill>
                <a:latin typeface="Arial"/>
              </a:rPr>
              <a:t>13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 and the phase </a:t>
            </a:r>
            <a:r>
              <a:rPr b="1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both govern the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333399"/>
                </a:solidFill>
                <a:latin typeface="Wingdings"/>
                <a:ea typeface="Wingdings"/>
              </a:rPr>
              <a:t>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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e 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oscillation at the atmospheric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We know that </a:t>
            </a:r>
            <a:r>
              <a:rPr b="1" lang="en-GB" sz="1800" spc="-1" strike="noStrike">
                <a:solidFill>
                  <a:srgbClr val="3333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3333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is &lt; 10</a:t>
            </a:r>
            <a:r>
              <a:rPr b="1" lang="en-GB" sz="1800" spc="-1" strike="noStrike" baseline="30000">
                <a:solidFill>
                  <a:srgbClr val="333399"/>
                </a:solidFill>
                <a:latin typeface="Arial"/>
              </a:rPr>
              <a:t>o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(CHOO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716360" y="573408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11640" y="5734080"/>
            <a:ext cx="4826160" cy="825480"/>
          </a:xfrm>
          <a:prstGeom prst="rect">
            <a:avLst/>
          </a:prstGeom>
          <a:solidFill>
            <a:srgbClr val="bbe0e3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we have to look for a small osci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0000" y="4292640"/>
            <a:ext cx="1295640" cy="239760"/>
          </a:xfrm>
          <a:custGeom>
            <a:avLst/>
            <a:gdLst/>
            <a:ahLst/>
            <a:rect l="l" t="t" r="r" b="b"/>
            <a:pathLst>
              <a:path w="816" h="151">
                <a:moveTo>
                  <a:pt x="0" y="0"/>
                </a:moveTo>
                <a:cubicBezTo>
                  <a:pt x="136" y="60"/>
                  <a:pt x="272" y="121"/>
                  <a:pt x="408" y="136"/>
                </a:cubicBezTo>
                <a:cubicBezTo>
                  <a:pt x="544" y="151"/>
                  <a:pt x="680" y="121"/>
                  <a:pt x="816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68360" y="3645000"/>
            <a:ext cx="82800" cy="936360"/>
          </a:xfrm>
          <a:custGeom>
            <a:avLst/>
            <a:gdLst/>
            <a:ahLst/>
            <a:rect l="l" t="t" r="r" b="b"/>
            <a:pathLst>
              <a:path w="52" h="590">
                <a:moveTo>
                  <a:pt x="45" y="590"/>
                </a:moveTo>
                <a:cubicBezTo>
                  <a:pt x="48" y="503"/>
                  <a:pt x="52" y="416"/>
                  <a:pt x="45" y="318"/>
                </a:cubicBezTo>
                <a:cubicBezTo>
                  <a:pt x="38" y="220"/>
                  <a:pt x="7" y="53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000" y="2924280"/>
            <a:ext cx="168120" cy="504720"/>
          </a:xfrm>
          <a:custGeom>
            <a:avLst/>
            <a:gdLst/>
            <a:ahLst/>
            <a:rect l="l" t="t" r="r" b="b"/>
            <a:pathLst>
              <a:path w="106" h="318">
                <a:moveTo>
                  <a:pt x="91" y="318"/>
                </a:moveTo>
                <a:cubicBezTo>
                  <a:pt x="98" y="254"/>
                  <a:pt x="106" y="190"/>
                  <a:pt x="91" y="137"/>
                </a:cubicBezTo>
                <a:cubicBezTo>
                  <a:pt x="76" y="84"/>
                  <a:pt x="38" y="4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8064720" cy="564660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395280" y="6093000"/>
            <a:ext cx="7848720" cy="6800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appearance in superbeam may also help in solving degeneracies (Donini et al, hep-ph/04114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971640" y="476280"/>
            <a:ext cx="734544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A possible schedule for  a european lab. at Frej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79280" y="13413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       2005                 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2010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2015                       20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1916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afety tu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35280" y="191628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08000" y="1916280"/>
            <a:ext cx="136872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421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b ca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492360" y="2421000"/>
            <a:ext cx="2592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a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403280" y="2421000"/>
            <a:ext cx="576360" cy="307080"/>
          </a:xfrm>
          <a:prstGeom prst="rect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.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979640" y="2421000"/>
            <a:ext cx="1297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2924280"/>
            <a:ext cx="16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35280" y="2924280"/>
            <a:ext cx="143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2924280"/>
            <a:ext cx="2808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MT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5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.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364000" y="3429000"/>
            <a:ext cx="20163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492360" y="3429000"/>
            <a:ext cx="1871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utside la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076640"/>
            <a:ext cx="19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-acc.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0720" y="4005360"/>
            <a:ext cx="284328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-decay, 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50920" y="4653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780000" y="465300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59640" y="465300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24000" y="515772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59640" y="5157720"/>
            <a:ext cx="2484360" cy="368280"/>
          </a:xfrm>
          <a:prstGeom prst="rect">
            <a:avLst/>
          </a:prstGeom>
          <a:solidFill>
            <a:srgbClr val="99cc0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ta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 rot="10800000">
            <a:off x="5435280" y="5733720"/>
            <a:ext cx="3384360" cy="64260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everal modules: physics can start when the 1</a:t>
            </a:r>
            <a:r>
              <a:rPr b="0" lang="en-GB" sz="1800" spc="-1" strike="noStrike" baseline="30000">
                <a:solidFill>
                  <a:srgbClr val="009900"/>
                </a:solidFill>
                <a:latin typeface="Arial"/>
              </a:rPr>
              <a:t>st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 is re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83528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364000" y="2421000"/>
            <a:ext cx="0" cy="360360"/>
          </a:xfrm>
          <a:prstGeom prst="line">
            <a:avLst/>
          </a:prstGeom>
          <a:ln w="93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780000" y="5157720"/>
            <a:ext cx="28796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348000" y="1773360"/>
            <a:ext cx="0" cy="396072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47640" y="5734080"/>
            <a:ext cx="3384720" cy="916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380880" y="1600200"/>
            <a:ext cx="7626600" cy="33591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373480" y="2509920"/>
            <a:ext cx="1198440" cy="549360"/>
          </a:xfr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71520" y="5051520"/>
            <a:ext cx="2743200" cy="1218960"/>
          </a:xfrm>
          <a:solidFill>
            <a:srgbClr val="ffe98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inac4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6-2007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to decide on the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implementation  of the Linac 4 and any increased R&amp;D programm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depending on new funds made available and on a new HR polic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989600"/>
            <a:ext cx="2895480" cy="1411200"/>
          </a:xfrm>
          <a:solidFill>
            <a:srgbClr val="ffc5e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PL approval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2009-2010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o review and redefine the strategy for CERN activities in the next decade 2011-2020 in the light of the first results from LHC and of progress and results from the previous actions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4920" y="1143000"/>
            <a:ext cx="2679480" cy="465120"/>
          </a:xfr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F tests in SM 18 of prototype structures* for Linac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876840" y="510048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3886200" y="43430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80880" y="235080"/>
            <a:ext cx="68580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ing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65360" y="1143000"/>
            <a:ext cx="335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 Quotes from R. Aymar (Jan.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7416720" cy="777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High energy beta b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26920" y="1268280"/>
            <a:ext cx="7921800" cy="54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y papers in the last 2 years have advocated using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higher energ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eta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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nging from 350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refurbished SP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to 1000 or higher (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greenfield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Higher energy offers several advantages, in particular to solve the mass hierarchy through matter eff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MOST STUDIES BASED ON THE HYPOTHESIS THAT THE DECAY RATE IN THE RING STAYS THE SA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so that the event rate grows like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veats: phase space limitation  =&gt; increase bunch length =&gt; more background: This needs to be studied carefu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higher energy, performances of water Cerenkov deteriorate (background increase). Possibility =&gt; change technology =&gt; smaller mass =&gt; less statistics (and loss for non-accelerator phys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ed a new accelerator, new site and a very big decay ring =&gt;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cost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se projects, if proven feasible and as performant as expected, will arrive much later, but would then be direct competitors to a neutrino facto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[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see P.Hernandez review talk at CERN ISS meeting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oss-Se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486400" cy="54151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nal and Backgrounds,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918720" y="51814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2640" y="51814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66840" y="1143000"/>
            <a:ext cx="3976560" cy="401472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724280" y="1058760"/>
            <a:ext cx="4148280" cy="41292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s of D.Casper on W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very mature and powerful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s to low-medium energy super-beams or beta beams are fairly manage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ends on details of beam, baselin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ies above 1.5-2 GeV create difficu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mitigated by mi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24000" y="630864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.Casper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First example (hep-ph/050302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. Burguet-Castell et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84360" y="1628640"/>
            <a:ext cx="727236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Flux independent of </a:t>
            </a:r>
            <a:r>
              <a:rPr b="0" lang="en-GB" sz="2400" spc="-1" strike="noStrike">
                <a:solidFill>
                  <a:srgbClr val="cc00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Overestimate duty cycl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setups considered (with megaton detector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 120, L=130 km (optimal Frej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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=150, L=300 km (max,SPS at optimal dis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II g=350, L=730 km (S-SPS, Canfranc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CP-Violation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nsitivity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Tahoma"/>
              </a:rPr>
              <a:t>θ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Tahoma"/>
              </a:rPr>
              <a:t>13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≠0 v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63640" y="878040"/>
            <a:ext cx="5616720" cy="247968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84520" y="3933720"/>
            <a:ext cx="5595840" cy="25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mparison of  set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4427640" y="2060640"/>
            <a:ext cx="4716360" cy="35049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4716360" cy="353520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826920" y="6093000"/>
            <a:ext cx="316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E.Couce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Another look at the mixing matr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24000" y="2060640"/>
                <a:ext cx="8499240" cy="13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sSub>
                                <m:e>
                                  <m:r>
                                    <m:t xml:space="preserve">θ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47636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84720" y="3860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48360" y="2349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028000" y="234936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20000" y="2708280"/>
            <a:ext cx="431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28000" y="2708280"/>
            <a:ext cx="3603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393372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4941720"/>
            <a:ext cx="187344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4941720"/>
            <a:ext cx="201780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Symbol"/>
                <a:ea typeface="Symbol"/>
              </a:rPr>
              <a:t></a:t>
            </a:r>
            <a:r>
              <a:rPr b="0" lang="en-GB" sz="2800" spc="-1" strike="noStrike">
                <a:solidFill>
                  <a:srgbClr val="cc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cc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cc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ATM</a:t>
            </a: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16720" y="5013360"/>
            <a:ext cx="216072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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LA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6021360"/>
            <a:ext cx="82818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is “factorization” of effects is due to the smallness of </a:t>
            </a:r>
            <a:r>
              <a:rPr b="1" lang="en-GB" sz="2000" spc="-1" strike="noStrike">
                <a:solidFill>
                  <a:srgbClr val="009900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9900"/>
                </a:solidFill>
                <a:latin typeface="Arial"/>
              </a:rPr>
              <a:t>13 </a:t>
            </a: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00"/>
                </a:solidFill>
                <a:latin typeface="Arial"/>
              </a:rPr>
              <a:t>the strong difference in oscillation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GB" sz="4400" spc="-1" strike="noStrike" baseline="30000">
                <a:solidFill>
                  <a:srgbClr val="0000ff"/>
                </a:solidFill>
                <a:latin typeface="Arial"/>
              </a:rPr>
              <a:t>nd</a:t>
            </a: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 example (Migliozzi, TAUP0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59280" y="1628640"/>
            <a:ext cx="4608360" cy="147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= 350 (S-SPS) , same flux as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CERN-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0 kT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 year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276720" y="3348000"/>
            <a:ext cx="5867280" cy="3510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900000" y="4869000"/>
            <a:ext cx="2448000" cy="11912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formances similar to CERN-Frejus and no non-accelerator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4859280" y="3141720"/>
            <a:ext cx="21744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348000" y="5300640"/>
            <a:ext cx="12240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3rd example (hep-ph/0405081)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erranova et 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1773360"/>
            <a:ext cx="705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1773360"/>
            <a:ext cx="7705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 between 1500 and 25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ll detector counting muons at Gran Sa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68360" y="2770200"/>
            <a:ext cx="547236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ff"/>
                </a:solidFill>
                <a:latin typeface="Arial"/>
              </a:rPr>
              <a:t>EC ions: monochromatic beam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.Bernabeu et al, hep-ph/05050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68360" y="1628640"/>
            <a:ext cx="7343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ndidates: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48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3.1 mn 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6/4      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= 2062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GB" sz="18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y   T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7.2 mn  EC/</a:t>
            </a:r>
            <a:r>
              <a:rPr b="1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99.9/0.1   Q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E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= 1397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4176720" cy="312876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1835280" y="31417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k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2708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Pending question: achievable flux ? Challenge: needs partially stripped 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3640" y="3500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Run at different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’s, with or without betabeam: interesting potenti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859280" y="4653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Even at low flux, ideal beam to measure neutrino cross-sections in a nea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8000" y="5805360"/>
            <a:ext cx="8928000" cy="855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also… 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intense </a:t>
            </a:r>
            <a:r>
              <a:rPr b="1" lang="en-GB" sz="2800" spc="-1" strike="noStrike">
                <a:solidFill>
                  <a:srgbClr val="0000ff"/>
                </a:solidFill>
                <a:latin typeface="Arial"/>
              </a:rPr>
              <a:t>monochromatic</a:t>
            </a:r>
            <a:r>
              <a:rPr b="1" lang="en-GB" sz="3200" spc="-1" strike="noStrike">
                <a:solidFill>
                  <a:srgbClr val="0000ff"/>
                </a:solidFill>
                <a:latin typeface="Arial"/>
              </a:rPr>
              <a:t> neutron bea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about 10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/sec , useful for nuclear physics (cf NuPA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79280" y="44280"/>
            <a:ext cx="8785440" cy="1368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(very) low energy beta-beams(</a:t>
            </a:r>
            <a:r>
              <a:rPr b="0" lang="en-US" sz="40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  <a:ea typeface="Arial"/>
              </a:rPr>
              <a:t>~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7-14)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Volpe, Journ. Phys. G30 (2004) 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642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The id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To exploit th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eta-beam concept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duce intense and pure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ow-energy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eutrino bea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5653800" y="1700280"/>
            <a:ext cx="3116160" cy="1194480"/>
            <a:chOff x="5653800" y="1700280"/>
            <a:chExt cx="3116160" cy="1194480"/>
          </a:xfrm>
        </p:grpSpPr>
        <p:sp>
          <p:nvSpPr>
            <p:cNvPr id="542" name=""/>
            <p:cNvSpPr/>
            <p:nvPr/>
          </p:nvSpPr>
          <p:spPr>
            <a:xfrm>
              <a:off x="6040080" y="2257560"/>
              <a:ext cx="254160" cy="3049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230880" y="1952280"/>
              <a:ext cx="252360" cy="3049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287040" y="2408760"/>
              <a:ext cx="394200" cy="399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863680" y="1943280"/>
              <a:ext cx="227160" cy="324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5653800" y="2389680"/>
              <a:ext cx="393840" cy="4032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30880" y="2562480"/>
              <a:ext cx="252360" cy="3045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5863680" y="2553120"/>
              <a:ext cx="227160" cy="3236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937200" y="2462400"/>
              <a:ext cx="695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867720" y="244332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oo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735680" y="2200320"/>
              <a:ext cx="87480" cy="4096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803000" y="2399400"/>
              <a:ext cx="591120" cy="5904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823880" y="1949400"/>
              <a:ext cx="528480" cy="38700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827480" y="2496600"/>
              <a:ext cx="519840" cy="39816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06280" y="19526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04920" y="206244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15880" y="2189160"/>
              <a:ext cx="59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6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00160" y="1700280"/>
              <a:ext cx="156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9900"/>
                  </a:solidFill>
                  <a:latin typeface="Comic Sans MS"/>
                </a:rPr>
                <a:t>Beta-bea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6014160" y="3332160"/>
            <a:ext cx="2524680" cy="1033200"/>
            <a:chOff x="6014160" y="3332160"/>
            <a:chExt cx="2524680" cy="1033200"/>
          </a:xfrm>
        </p:grpSpPr>
        <p:sp>
          <p:nvSpPr>
            <p:cNvPr id="560" name=""/>
            <p:cNvSpPr/>
            <p:nvPr/>
          </p:nvSpPr>
          <p:spPr>
            <a:xfrm flipV="1">
              <a:off x="8074080" y="3755520"/>
              <a:ext cx="457200" cy="152280"/>
            </a:xfrm>
            <a:prstGeom prst="line">
              <a:avLst/>
            </a:prstGeom>
            <a:ln w="9360">
              <a:solidFill>
                <a:srgbClr val="ffcc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02480" y="3881160"/>
              <a:ext cx="304920" cy="3049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16680" y="4033800"/>
              <a:ext cx="457200" cy="0"/>
            </a:xfrm>
            <a:prstGeom prst="line">
              <a:avLst/>
            </a:prstGeom>
            <a:ln w="9360">
              <a:solidFill>
                <a:srgbClr val="cc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7921800" y="4213080"/>
              <a:ext cx="304560" cy="15228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97760" y="3832200"/>
              <a:ext cx="152640" cy="15228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38040" y="3555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Georgia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16880" y="3984480"/>
              <a:ext cx="304920" cy="30492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8147880" y="3332160"/>
              <a:ext cx="39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ff9900"/>
                  </a:solidFill>
                  <a:latin typeface="Comic Sans MS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14160" y="3535200"/>
              <a:ext cx="365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800" spc="-1" strike="noStrike">
                  <a:solidFill>
                    <a:srgbClr val="996633"/>
                  </a:solidFill>
                  <a:latin typeface="Symbol"/>
                  <a:ea typeface="Symbol"/>
                </a:rPr>
                <a:t>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596640" y="347472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Georgia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"/>
          <p:cNvSpPr/>
          <p:nvPr/>
        </p:nvSpPr>
        <p:spPr>
          <a:xfrm>
            <a:off x="4140360" y="5300640"/>
            <a:ext cx="5003640" cy="1441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esign study within EURIS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sign of a small storage ring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ossible construction at 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(in old antiproton storage ring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39640" y="3040200"/>
            <a:ext cx="516420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Physics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Neutrino-nucleus interaction studie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astrophys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 experiments (oscillation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eutrinoless double-beta dec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uclear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Arial"/>
              </a:rPr>
              <a:t>Conclusion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39640" y="765000"/>
            <a:ext cx="7993080" cy="5757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are clearly 2 different strategies concerning beta-beam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. The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aselin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=100,  L=130 km)  with a megaton WC detector at Frejus, which makes full use of some happy coinciden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CERN-Frejus is the right distance for the SPL super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Digging a safety gallery at Frejus gives a good opprtunity to dig the new cavern (2010-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Beta-beam energy obtained from SPS fits also Cern-Frejus distance, and a strong synergy with Eurisol project has become evident and fruitf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The betabeam + superbeam combination gives by far the best second generation project worldwide (superior to T2K2 or BNL/U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 can easily take the risk of a null result on oscillations, since such a detector has a very rich and fundamental program of  its own (proton decay, supernova explosi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is approach, </a:t>
            </a: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the project is not meant to compete with neutrino factories,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7) and allow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oscillations….while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ing back neutrino physics to 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9223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ff"/>
                </a:solidFill>
                <a:latin typeface="Arial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1280" y="1484280"/>
            <a:ext cx="7777080" cy="340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The higher energy betabea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which clearly aims at competing with a neutrino fac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chieve these goals, the baseline scenario has to be significantly improved to override present limitations. It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new complex of accelerators (faster, higher acceptable flux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 better (and bigger!) decay 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Such a project will anyhow need much more R&amp;D, will arrive much later and will be also more costly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n oscillation physics could also become a criterim to choose between betabeams and neutrino factories, in case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 experiments have seen no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4360" y="5157720"/>
            <a:ext cx="77752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ually, these 2 strategies are not exclusive, we could have both in sequence. An alternative would be to skip the baseline betabeam and go directly to a high energy betabeam or a neutrino factory, 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but I personnally find this too ris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482436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1280" y="692280"/>
            <a:ext cx="7920000" cy="588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A megaton water Cerenkov detector ,consisting of several modules, can be installed  between 2010 and 2020 at Frej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It has a very rich non-accelerator program of its own: proton decay, SN explosions, atmospheric, solar, past SN neutr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CERN decides to build the SP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ffers an excellent superbeam of 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generation, with similar performances to the japanese project T2K2 and starting sooner (HK ready by 2020-20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If  this SPL is the proton machine for EURISOL at CER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it opens the way to beta beams, with modest added cost, offering  better performances than the superbeam and a strong complementarity between the two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cerning neutrino physics, this project is not meant to compete with a neutrino factory, but to </a:t>
            </a:r>
            <a:r>
              <a:rPr b="0" lang="en-GB" sz="1800" spc="-1" strike="noStrike">
                <a:solidFill>
                  <a:srgbClr val="009900"/>
                </a:solidFill>
                <a:latin typeface="Arial"/>
              </a:rPr>
              <a:t>arrive sooner and make significant progres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n the presently unknown parameters… and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ring back </a:t>
            </a:r>
            <a:r>
              <a:rPr b="0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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physics to Euro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Higher energy beta beams correspond to a different strategy, as an alternative to neutrino facto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0099"/>
                </a:solidFill>
                <a:latin typeface="Arial"/>
              </a:rPr>
              <a:t>It gives a common interest to nuclear physicists and neutrino physicists to have the SPL at 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/>
          <p:nvPr/>
        </p:nvSpPr>
        <p:spPr>
          <a:xfrm>
            <a:off x="2050920" y="234936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BACKU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108000" y="404640"/>
          <a:ext cx="8748720" cy="6192720"/>
        </p:xfrm>
        <a:graphic>
          <a:graphicData uri="http://schemas.openxmlformats.org/drawingml/2006/table">
            <a:tbl>
              <a:tblPr/>
              <a:tblGrid>
                <a:gridCol w="863640"/>
                <a:gridCol w="1368360"/>
                <a:gridCol w="1476360"/>
                <a:gridCol w="1044720"/>
                <a:gridCol w="1368360"/>
                <a:gridCol w="1295280"/>
                <a:gridCol w="133200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placement accele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INTEREST  F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LHC up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beyond C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RIB beyond ISOL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hysics with Kand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ac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</a:t>
                      </a:r>
                      <a:r>
                        <a:rPr b="1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850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 RCS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50 k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 GeV/mMW RCS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 ?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too short  beam pul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 GeV/50 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L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4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.2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0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super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beam,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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</a:tr>
              <a:tr h="5929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C PS*/** for H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(if alon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Hz RC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→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4 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fact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  <a:tr h="77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eV SC SPS*/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5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→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T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nsity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 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a7a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8c8ff"/>
                    </a:solidFill>
                  </a:tcPr>
                </a:tc>
              </a:tr>
            </a:tbl>
          </a:graphicData>
        </a:graphic>
      </p:graphicFrame>
      <p:sp>
        <p:nvSpPr>
          <p:cNvPr id="581" name=""/>
          <p:cNvSpPr/>
          <p:nvPr/>
        </p:nvSpPr>
        <p:spPr>
          <a:xfrm>
            <a:off x="606240" y="6553080"/>
            <a:ext cx="173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with brightness x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59280" y="6553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* need new injector(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979640" y="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IP WG: long term alternativ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.Garob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1600200" y="2227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09480" y="1219320"/>
            <a:ext cx="8305920" cy="466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uture neutrino facilities offer great promise for fundamental discoveries (such as CP violation) in neutrino physics, and a post-LHC construction window may exist for a facility to be sited at C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ERN should arrange a budget and personnel to enhance its participation in further developing the physics case and the technologies necessary for the realization of such facilities.  This would allow CERN to play a significant role in such projects wherever they are sit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A high-power proton driver is a main building block of future projects, and is therefore required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Alone,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 a direct superbeam from a 2.2 GeV SPL does not appear to be the most attractive option for a future CERN neutrino experiment as it does not produce a significant advance on T2K.</a:t>
            </a: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●</a:t>
            </a: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 welcome the effort, partly funded by the EU, concerned with the conceptual design of a </a:t>
            </a: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β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-beam.  At the same time </a:t>
            </a:r>
            <a:r>
              <a:rPr b="0" lang="en-GB" sz="1800" spc="-1" strike="noStrike" u="sng">
                <a:solidFill>
                  <a:srgbClr val="0000cc"/>
                </a:solidFill>
                <a:uFillTx/>
                <a:latin typeface="Comic Sans MS"/>
              </a:rPr>
              <a:t>CERN should support the European neutrino factory initiative in its conceptual design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3120" y="68356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848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PSC (Villars) 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16200000">
            <a:off x="-952920" y="301320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7c00"/>
                </a:solidFill>
                <a:latin typeface="Arial"/>
              </a:rPr>
              <a:t>CERN Context [3/6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24480" y="575136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59920"/>
            <a:ext cx="6923160" cy="77796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The quest for </a:t>
            </a:r>
            <a:r>
              <a:rPr b="0" lang="en-GB" sz="3200" spc="-1" strike="noStrike">
                <a:solidFill>
                  <a:srgbClr val="cc0000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cc0000"/>
                </a:solidFill>
                <a:latin typeface="Arial"/>
              </a:rPr>
              <a:t>13</a:t>
            </a:r>
            <a:r>
              <a:rPr b="0" lang="en-GB" sz="3200" spc="-1" strike="noStrike">
                <a:solidFill>
                  <a:srgbClr val="cc0000"/>
                </a:solidFill>
                <a:latin typeface="Arial"/>
              </a:rPr>
              <a:t>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268280"/>
            <a:ext cx="75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w reactor experiments (double-Chooz,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superbeams of first generation (T2K,NO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421000"/>
            <a:ext cx="6121440" cy="71820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…</a:t>
            </a: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.and for </a:t>
            </a:r>
            <a:r>
              <a:rPr b="0" lang="en-GB" sz="3600" spc="-1" strike="noStrike">
                <a:solidFill>
                  <a:srgbClr val="cc0000"/>
                </a:solidFill>
                <a:latin typeface="Symbol"/>
                <a:ea typeface="Symbol"/>
              </a:rPr>
              <a:t></a:t>
            </a:r>
            <a:r>
              <a:rPr b="0" lang="en-GB" sz="3600" spc="-1" strike="noStrike" baseline="-25000">
                <a:solidFill>
                  <a:srgbClr val="cc0000"/>
                </a:solidFill>
                <a:latin typeface="Arial"/>
              </a:rPr>
              <a:t>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3141720"/>
            <a:ext cx="756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gaton detectors and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superbeams of second gener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betabeam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and/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utrino </a:t>
            </a:r>
            <a:r>
              <a:rPr b="0" lang="en-GB" sz="2400" spc="-1" strike="noStrike">
                <a:solidFill>
                  <a:srgbClr val="0000ff"/>
                </a:solidFill>
                <a:latin typeface="Arial"/>
              </a:rPr>
              <a:t>fac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5734080"/>
            <a:ext cx="8748720" cy="74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cc33"/>
                </a:solidFill>
                <a:latin typeface="Arial"/>
              </a:rPr>
              <a:t>while solving as much as possible intrinsic, mass hierarchy and </a:t>
            </a:r>
            <a:r>
              <a:rPr b="1" lang="el-GR" sz="2000" spc="-1" strike="noStrike">
                <a:solidFill>
                  <a:srgbClr val="33cc33"/>
                </a:solidFill>
                <a:latin typeface="Arial"/>
                <a:ea typeface="Arial"/>
              </a:rPr>
              <a:t>θ</a:t>
            </a:r>
            <a:r>
              <a:rPr b="1" lang="en-GB" sz="2000" spc="-1" strike="noStrike" baseline="-25000">
                <a:solidFill>
                  <a:srgbClr val="33cc33"/>
                </a:solidFill>
                <a:latin typeface="Arial"/>
                <a:ea typeface="Arial"/>
              </a:rPr>
              <a:t>23</a:t>
            </a:r>
            <a:r>
              <a:rPr b="1" lang="en-GB" sz="2000" spc="-1" strike="noStrike">
                <a:solidFill>
                  <a:srgbClr val="33cc33"/>
                </a:solidFill>
                <a:latin typeface="Arial"/>
                <a:ea typeface="Arial"/>
              </a:rPr>
              <a:t> ambigu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6000" y="3716280"/>
            <a:ext cx="0" cy="1584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6000" y="530064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716280"/>
            <a:ext cx="2160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42210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C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900000" y="1844640"/>
            <a:ext cx="28728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5573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Europe abs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1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1" name=""/>
          <p:cNvGraphicFramePr/>
          <p:nvPr/>
        </p:nvGraphicFramePr>
        <p:xfrm>
          <a:off x="684360" y="1484280"/>
          <a:ext cx="7364160" cy="4708440"/>
        </p:xfrm>
        <a:graphic>
          <a:graphicData uri="http://schemas.openxmlformats.org/drawingml/2006/table">
            <a:tbl>
              <a:tblPr/>
              <a:tblGrid>
                <a:gridCol w="3447720"/>
                <a:gridCol w="1974960"/>
                <a:gridCol w="1941480"/>
              </a:tblGrid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on spe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(30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 (0.76 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uty cycle during the pu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 (5/8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inal rms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g M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2" name=""/>
          <p:cNvSpPr/>
          <p:nvPr/>
        </p:nvSpPr>
        <p:spPr>
          <a:xfrm>
            <a:off x="918000" y="914400"/>
            <a:ext cx="2971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533160" y="13716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[Extrapolation from PDAC based on the SPL CDR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457200" y="1828800"/>
          <a:ext cx="7966080" cy="4581360"/>
        </p:xfrm>
        <a:graphic>
          <a:graphicData uri="http://schemas.openxmlformats.org/drawingml/2006/table">
            <a:tbl>
              <a:tblPr/>
              <a:tblGrid>
                <a:gridCol w="3728880"/>
                <a:gridCol w="2136960"/>
                <a:gridCol w="2100240"/>
              </a:tblGrid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beam pow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Kinetic ener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ulse du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F frequ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bunches (bucket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8 (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protons per pulse (per bunc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.43 E14 (2.1 E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umber of turns for inj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ms normalized transverse emitt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 m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e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&amp; PDAC [3/3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917640" y="914400"/>
            <a:ext cx="386712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SPL (CDR2) + PDAC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95280" y="645336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987280" y="274680"/>
            <a:ext cx="30970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inac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0" name=""/>
          <p:cNvGraphicFramePr/>
          <p:nvPr/>
        </p:nvGraphicFramePr>
        <p:xfrm>
          <a:off x="1447920" y="3429000"/>
          <a:ext cx="5486400" cy="2679840"/>
        </p:xfrm>
        <a:graphic>
          <a:graphicData uri="http://schemas.openxmlformats.org/drawingml/2006/table">
            <a:tbl>
              <a:tblPr/>
              <a:tblGrid>
                <a:gridCol w="3657600"/>
                <a:gridCol w="1015920"/>
                <a:gridCol w="812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etic ener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current during the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du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particles per pu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se repetition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ch 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2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01" name=""/>
          <p:cNvSpPr/>
          <p:nvPr/>
        </p:nvSpPr>
        <p:spPr>
          <a:xfrm>
            <a:off x="2843280" y="2924280"/>
            <a:ext cx="2590560" cy="368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AC4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00000" y="1052640"/>
            <a:ext cx="7543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and exten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chnical Design report in preparation (publication mid-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ssible plan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uthorization: December 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struction: 2007-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etting-up &amp; commissioning: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vailability for physics (replacing Linac2): Januar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280" y="630864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86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 MeV test place (Linac4 front-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380880" y="1752480"/>
            <a:ext cx="8381880" cy="4335120"/>
            <a:chOff x="380880" y="1752480"/>
            <a:chExt cx="8381880" cy="4335120"/>
          </a:xfrm>
        </p:grpSpPr>
        <p:pic>
          <p:nvPicPr>
            <p:cNvPr id="606" name="" descr=""/>
            <p:cNvPicPr/>
            <p:nvPr/>
          </p:nvPicPr>
          <p:blipFill>
            <a:blip r:embed="rId1"/>
            <a:srcRect l="19034" t="17343" r="3192" b="0"/>
            <a:stretch/>
          </p:blipFill>
          <p:spPr>
            <a:xfrm>
              <a:off x="380880" y="1752480"/>
              <a:ext cx="8381880" cy="433512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607" name=""/>
            <p:cNvSpPr/>
            <p:nvPr/>
          </p:nvSpPr>
          <p:spPr>
            <a:xfrm>
              <a:off x="7163640" y="2661840"/>
              <a:ext cx="10339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H-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757400" y="2661840"/>
              <a:ext cx="105840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IPHI RF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239640" y="3773520"/>
              <a:ext cx="1012680" cy="580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hop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58080" y="2661840"/>
              <a:ext cx="189216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easurement 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280520" y="4380120"/>
              <a:ext cx="1453320" cy="337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EP Klystr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" name=""/>
          <p:cNvSpPr/>
          <p:nvPr/>
        </p:nvSpPr>
        <p:spPr>
          <a:xfrm>
            <a:off x="762120" y="838080"/>
            <a:ext cx="754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ngoing project supported by HIPPI (FP6) + IPHI (CEA+IN2P3+CER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cation: PS South Hall extension  (future location in Linac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est with beam : 2007-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5280" y="6381720"/>
            <a:ext cx="1512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. 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468360" y="257040"/>
            <a:ext cx="8675640" cy="670572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179280" y="6308640"/>
            <a:ext cx="2627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Zisman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C: A monochromatic neutrino b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2057400" y="4267080"/>
            <a:ext cx="4800600" cy="18892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14400" y="1600200"/>
            <a:ext cx="3276720" cy="229248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4724280" y="1676520"/>
            <a:ext cx="3200400" cy="224136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150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ly stripped ions: The loss due to stripping smaller than 5% per minute in the decay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to produce 1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1 15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 atoms/second (1+) with 50 microAmps proton beam with existing technology (TRIU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n annual rate of 10</a:t>
            </a:r>
            <a:r>
              <a:rPr b="0" lang="en-US" sz="2400" spc="-1" strike="noStrike" baseline="30000">
                <a:solidFill>
                  <a:srgbClr val="009900"/>
                </a:solidFill>
                <a:latin typeface="Arial"/>
              </a:rPr>
              <a:t>18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decays along one straight section seems as a realistic target value for a design stu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eyond EURISOL DS: Who will do the de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s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150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y the best isot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50920" y="6237360"/>
            <a:ext cx="259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.Lindroos, NuFact’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37160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1066680" y="1631880"/>
          <a:ext cx="7086600" cy="5149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31880"/>
                    <a:ext cx="70866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mitters (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4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9" name=""/>
          <p:cNvGraphicFramePr/>
          <p:nvPr/>
        </p:nvGraphicFramePr>
        <p:xfrm>
          <a:off x="1143000" y="838080"/>
          <a:ext cx="6781680" cy="55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838080"/>
                    <a:ext cx="6781680" cy="55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"/>
          <p:cNvSpPr txBox="1"/>
          <p:nvPr/>
        </p:nvSpPr>
        <p:spPr>
          <a:xfrm>
            <a:off x="304920" y="22860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B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32" name=""/>
          <p:cNvSpPr/>
          <p:nvPr/>
        </p:nvSpPr>
        <p:spPr>
          <a:xfrm>
            <a:off x="7213680" y="635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"/>
          <p:cNvSpPr/>
          <p:nvPr/>
        </p:nvSpPr>
        <p:spPr>
          <a:xfrm>
            <a:off x="1835280" y="33336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some personal thou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95280" y="974880"/>
            <a:ext cx="7991640" cy="60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aim in the coming years: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13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Arial"/>
              </a:rPr>
              <a:t>CP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sign (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is absent from first round of superbe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Europe regain strong position for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rou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think 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f we are able to start between 2015 and 20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+betabeams superior to T2K phase2 and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fore ( if we stick to “baseline” scenario ) so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 can attract a worldwide collabo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etector and beams wait for the other to take first step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hing will ha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lternative is to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ski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econd round and prepare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 (neutrino factory or higher energy bea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I personally find this risky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00"/>
                </a:solidFill>
                <a:latin typeface="Arial"/>
              </a:rPr>
              <a:t>We should try to find again a consensual road map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4000" y="1052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4000" y="1557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24000" y="1989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5280" y="5157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373720"/>
            <a:ext cx="2808360" cy="405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op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m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 0.5 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(M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620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ff"/>
                </a:solidFill>
                <a:latin typeface="Arial"/>
              </a:rPr>
              <a:t>(Initial desig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1187280" y="1413000"/>
            <a:ext cx="712980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755280" y="530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611280" y="38606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684000" y="2421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1979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995640" y="5950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8672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885080" y="595008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187280" y="692280"/>
            <a:ext cx="71298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124000" y="907920"/>
            <a:ext cx="532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CLUDED BY CHO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95280" y="5084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24000" y="36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2400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765000"/>
            <a:ext cx="1116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427640" y="6381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6364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708360" y="6308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508720" y="6308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667640" y="6308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835280" y="2708280"/>
            <a:ext cx="2160360" cy="1225440"/>
          </a:xfrm>
          <a:custGeom>
            <a:avLst/>
            <a:gdLst/>
            <a:ahLst/>
            <a:rect l="l" t="t" r="r" b="b"/>
            <a:pathLst>
              <a:path w="1361" h="772">
                <a:moveTo>
                  <a:pt x="0" y="0"/>
                </a:moveTo>
                <a:cubicBezTo>
                  <a:pt x="113" y="185"/>
                  <a:pt x="227" y="370"/>
                  <a:pt x="454" y="499"/>
                </a:cubicBezTo>
                <a:cubicBezTo>
                  <a:pt x="681" y="628"/>
                  <a:pt x="1210" y="727"/>
                  <a:pt x="1361" y="772"/>
                </a:cubicBezTo>
              </a:path>
            </a:pathLst>
          </a:custGeom>
          <a:noFill/>
          <a:ln w="7632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995640" y="4149720"/>
            <a:ext cx="1440000" cy="64764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6" y="204"/>
                  <a:pt x="317" y="272"/>
                </a:cubicBezTo>
                <a:cubicBezTo>
                  <a:pt x="468" y="340"/>
                  <a:pt x="816" y="385"/>
                  <a:pt x="907" y="408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804000" y="4724280"/>
            <a:ext cx="1513080" cy="720720"/>
          </a:xfrm>
          <a:custGeom>
            <a:avLst/>
            <a:gdLst/>
            <a:ahLst/>
            <a:rect l="l" t="t" r="r" b="b"/>
            <a:pathLst>
              <a:path w="907" h="408">
                <a:moveTo>
                  <a:pt x="0" y="0"/>
                </a:moveTo>
                <a:cubicBezTo>
                  <a:pt x="83" y="102"/>
                  <a:pt x="167" y="204"/>
                  <a:pt x="318" y="272"/>
                </a:cubicBezTo>
                <a:cubicBezTo>
                  <a:pt x="469" y="340"/>
                  <a:pt x="809" y="385"/>
                  <a:pt x="907" y="408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156360" y="4941720"/>
            <a:ext cx="2016000" cy="505080"/>
          </a:xfrm>
          <a:custGeom>
            <a:avLst/>
            <a:gdLst/>
            <a:ahLst/>
            <a:rect l="l" t="t" r="r" b="b"/>
            <a:pathLst>
              <a:path w="1270" h="318">
                <a:moveTo>
                  <a:pt x="0" y="0"/>
                </a:moveTo>
                <a:cubicBezTo>
                  <a:pt x="53" y="64"/>
                  <a:pt x="106" y="129"/>
                  <a:pt x="318" y="182"/>
                </a:cubicBezTo>
                <a:cubicBezTo>
                  <a:pt x="530" y="235"/>
                  <a:pt x="1111" y="295"/>
                  <a:pt x="1270" y="318"/>
                </a:cubicBezTo>
              </a:path>
            </a:pathLst>
          </a:custGeom>
          <a:noFill/>
          <a:ln w="7632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227640" y="5229360"/>
            <a:ext cx="1729080" cy="360360"/>
          </a:xfrm>
          <a:custGeom>
            <a:avLst/>
            <a:gdLst/>
            <a:ahLst/>
            <a:rect l="l" t="t" r="r" b="b"/>
            <a:pathLst>
              <a:path w="1089" h="227">
                <a:moveTo>
                  <a:pt x="0" y="0"/>
                </a:moveTo>
                <a:cubicBezTo>
                  <a:pt x="23" y="49"/>
                  <a:pt x="46" y="98"/>
                  <a:pt x="227" y="136"/>
                </a:cubicBezTo>
                <a:cubicBezTo>
                  <a:pt x="408" y="174"/>
                  <a:pt x="945" y="212"/>
                  <a:pt x="1089" y="227"/>
                </a:cubicBezTo>
              </a:path>
            </a:pathLst>
          </a:custGeom>
          <a:noFill/>
          <a:ln w="76320">
            <a:solidFill>
              <a:srgbClr val="00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411280" y="27082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Minos, Icarus, Opera</a:t>
            </a:r>
            <a:r>
              <a:rPr b="1" lang="en-GB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33cc"/>
                </a:solidFill>
                <a:latin typeface="Arial"/>
              </a:rPr>
              <a:t>Double Choo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4140360" y="414972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T2K1, No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508720" y="4437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99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651640" y="530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cc00"/>
                </a:solidFill>
                <a:latin typeface="Symbol"/>
                <a:ea typeface="Symbol"/>
              </a:rPr>
              <a:t>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cc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7380360" y="486900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2K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mination vs. Sme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4267080" cy="409104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/>
          <p:cNvPicPr/>
          <p:nvPr/>
        </p:nvPicPr>
        <p:blipFill>
          <a:blip r:embed="rId2"/>
          <a:stretch/>
        </p:blipFill>
        <p:spPr>
          <a:xfrm>
            <a:off x="4724280" y="1143000"/>
            <a:ext cx="4186440" cy="410688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750600" y="536724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5795280" y="5410080"/>
            <a:ext cx="21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ring e-like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09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ff"/>
                </a:solidFill>
                <a:latin typeface="Arial"/>
              </a:rPr>
              <a:t>PMT size &lt;=&gt; c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iameter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“     &lt;=&gt;    12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ed area      1660                    615    cm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E(typ)   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20                      24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60                      70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SxQExCE              1                 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68360" y="3789360"/>
            <a:ext cx="7991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st                       2500                   800 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68360" y="4292640"/>
            <a:ext cx="8675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Cost/</a:t>
            </a:r>
            <a:r>
              <a:rPr b="0" i="1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 per useful PE</a:t>
            </a:r>
            <a:r>
              <a:rPr b="0" i="1" lang="de-DE" sz="2400" spc="-1" strike="noStrike" baseline="-25000">
                <a:solidFill>
                  <a:srgbClr val="cc0000"/>
                </a:solidFill>
                <a:latin typeface="Arial"/>
              </a:rPr>
              <a:t>U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= 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ost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/(</a:t>
            </a:r>
            <a:r>
              <a:rPr b="0" lang="de-DE" sz="2400" spc="-1" strike="noStrike">
                <a:solidFill>
                  <a:srgbClr val="cc0000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cc0000"/>
                </a:solidFill>
                <a:latin typeface="Arial"/>
              </a:rPr>
              <a:t>xQEx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1" lang="de-DE" sz="2400" spc="-1" strike="noStrike">
                <a:solidFill>
                  <a:srgbClr val="cc0000"/>
                </a:solidFill>
                <a:latin typeface="Arial"/>
              </a:rPr>
              <a:t>12.6                      7.7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€                       </a:t>
            </a:r>
            <a:r>
              <a:rPr b="0" lang="de-DE" sz="2400" spc="-1" strike="noStrike">
                <a:solidFill>
                  <a:srgbClr val="0000ff"/>
                </a:solidFill>
                <a:latin typeface=""/>
              </a:rPr>
              <a:t>→   1 20-inch PMT replaced by 2 12-inch PMTs :                .   </a:t>
            </a:r>
            <a:r>
              <a:rPr b="1" lang="de-DE" sz="2000" spc="-1" strike="noStrike">
                <a:solidFill>
                  <a:srgbClr val="0000ff"/>
                </a:solidFill>
                <a:latin typeface=""/>
              </a:rPr>
              <a:t>same number of PE, better SE, better timing, better granularity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"/>
              </a:rPr>
              <a:t>        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Saving (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per 20-inch)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cc0000"/>
                </a:solidFill>
                <a:latin typeface=""/>
              </a:rPr>
              <a:t>= 900 </a:t>
            </a:r>
            <a:r>
              <a:rPr b="0" lang="de-DE" sz="1800" spc="-1" strike="noStrike">
                <a:solidFill>
                  <a:srgbClr val="cc0000"/>
                </a:solidFill>
                <a:latin typeface="Arial"/>
              </a:rPr>
              <a:t>€  </a:t>
            </a:r>
            <a:r>
              <a:rPr b="0" lang="de-DE" sz="3200" spc="-1" strike="noStrike">
                <a:solidFill>
                  <a:srgbClr val="cc0000"/>
                </a:solidFill>
                <a:latin typeface="Arial"/>
              </a:rPr>
              <a:t>-</a:t>
            </a:r>
            <a:r>
              <a:rPr b="0" lang="de-DE" sz="2400" spc="-1" strike="noStrike">
                <a:solidFill>
                  <a:srgbClr val="cc0000"/>
                </a:solidFill>
                <a:latin typeface="Arial"/>
              </a:rPr>
              <a:t> electronics extra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24000" y="648180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ff"/>
                </a:solidFill>
                <a:latin typeface="Arial"/>
              </a:rPr>
              <a:t>New pump capacity need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43120" y="129528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elivery over 6 yea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00 working day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11280" y="2637000"/>
            <a:ext cx="82818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20“ tube</a:t>
            </a: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200,000/6/300 =&gt; 112 good tubes / yield 0.7 = 160 starts/day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(1 start/pump/day) =&gt;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0 pumps ( € 30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12“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400,000/6/300 =&gt; 222 good tubes / yield 0.7 = 320 starts/d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A multi-array computerised pump at Photonis handles 20 starts/day    </a:t>
            </a:r>
            <a:r>
              <a:rPr b="0" i="1" lang="de-DE" sz="2000" spc="-1" strike="noStrike">
                <a:solidFill>
                  <a:srgbClr val="000000"/>
                </a:solidFill>
                <a:latin typeface="Arial"/>
              </a:rPr>
              <a:t>=&gt;  </a:t>
            </a:r>
            <a:r>
              <a:rPr b="0" i="1" lang="de-DE" sz="3200" spc="-1" strike="noStrike">
                <a:solidFill>
                  <a:srgbClr val="000000"/>
                </a:solidFill>
                <a:latin typeface="Arial"/>
              </a:rPr>
              <a:t>16 pumps   ( € 5M or s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24000" y="6308640"/>
            <a:ext cx="2519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f Photonis, NNN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8360" y="144360"/>
            <a:ext cx="8351640" cy="668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5000"/>
            <a:ext cx="8748720" cy="672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859280" y="5229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cc0000"/>
                </a:solidFill>
                <a:latin typeface="Arial"/>
              </a:rPr>
              <a:t>September 200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914400"/>
            <a:ext cx="8534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L main go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the performance of the CERN high energy accelerators (PS, SPS &amp; LH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the needs of future experiments with neutrinos and radio-active ion b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09480" y="2057400"/>
            <a:ext cx="8229600" cy="3505320"/>
            <a:chOff x="609480" y="2057400"/>
            <a:chExt cx="8229600" cy="3505320"/>
          </a:xfrm>
        </p:grpSpPr>
        <p:pic>
          <p:nvPicPr>
            <p:cNvPr id="122" name="" descr="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8229600" cy="34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609480" y="4876920"/>
              <a:ext cx="441972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09480" y="5486400"/>
            <a:ext cx="8077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resent R&amp;D programme concentrates on low-energy (Linac4) items, wherever possible in collaboration with other laborator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6705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L current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67280" y="4797360"/>
            <a:ext cx="1225440" cy="459720"/>
          </a:xfrm>
          <a:prstGeom prst="rect">
            <a:avLst/>
          </a:prstGeom>
          <a:solidFill>
            <a:srgbClr val="66ccff"/>
          </a:solidFill>
          <a:ln w="9360">
            <a:solidFill>
              <a:srgbClr val="66cc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 M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6237360"/>
            <a:ext cx="2016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om R.Garo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8:09:34Z</dcterms:created>
  <dc:creator>jbouchez</dc:creator>
  <dc:description/>
  <dc:language>en-US</dc:language>
  <cp:lastModifiedBy>jbouchez</cp:lastModifiedBy>
  <dcterms:modified xsi:type="dcterms:W3CDTF">2005-10-18T08:42:52Z</dcterms:modified>
  <cp:revision>34</cp:revision>
  <dc:subject/>
  <dc:title>What we know and what we want to know</dc:title>
</cp:coreProperties>
</file>